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FEC1-D011-4D8A-97E2-967898603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6495-5E8E-4A73-AB95-B51D2CFB5C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459-1E21-46E7-8EFB-500F5620BB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2F2B-92DC-405B-B822-AA80FA268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B24E-F6CE-421D-9B38-839AC57AB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F6E-2618-400F-BD86-2277740406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FAE-ECBD-426F-A0C4-3C926092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EC1-2D6B-43EE-84C3-61D7D555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BC6-3CFC-42E1-9AA1-07B7BF09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CDE-B4AD-4A60-8065-655AEF4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17A-873D-45AC-A42D-1980AB26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605-AF0F-4B38-AF45-DC55915C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719-B655-40F9-962B-A4B2CE4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0EE-B4C8-4151-90E7-A2594074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A09-A1D3-4991-9690-D99F299F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FC6-D01A-4C31-ADFF-D988BD8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856-DAE2-4750-95EF-592147E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0E5-2AE3-4ADF-8E16-2AA862F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1B8-F2C0-43FB-A7FC-189560743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1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economy@gov.by" TargetMode="External"/><Relationship Id="rId2" Type="http://schemas.openxmlformats.org/officeDocument/2006/relationships/hyperlink" Target="mailto:science@economy.gov.by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01440"/>
            <a:ext cx="759636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терный подход как инструмент обеспечения конкурентоспособности компаний: мировой опыт и практи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зяйствования в условия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и Беларусь </a:t>
            </a:r>
            <a:br>
              <a:rPr sz="2800"/>
            </a:br>
            <a:br>
              <a:rPr sz="36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1505\Рабочий стол\здание6.png"/>
          <p:cNvPicPr/>
          <p:nvPr/>
        </p:nvPicPr>
        <p:blipFill>
          <a:blip r:embed="rId1"/>
          <a:stretch/>
        </p:blipFill>
        <p:spPr>
          <a:xfrm>
            <a:off x="5435640" y="1827360"/>
            <a:ext cx="3581280" cy="50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Стиль презентаций\6Презентация_Fonts.tif"/>
          <p:cNvPicPr/>
          <p:nvPr/>
        </p:nvPicPr>
        <p:blipFill>
          <a:blip r:embed="rId2"/>
          <a:stretch/>
        </p:blipFill>
        <p:spPr>
          <a:xfrm>
            <a:off x="0" y="0"/>
            <a:ext cx="9156600" cy="1668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214200" y="4714920"/>
            <a:ext cx="63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Начальник управления наук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инновационной политики</a:t>
            </a:r>
            <a:br>
              <a:rPr sz="2000"/>
            </a:br>
            <a:r>
              <a:rPr b="0" lang="ru-RU" sz="2000" spc="-1" strike="noStrike">
                <a:solidFill>
                  <a:srgbClr val="604a7b"/>
                </a:solidFill>
                <a:latin typeface="Constantia"/>
              </a:rPr>
              <a:t>Крупский Д.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492360" y="6308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ск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1595520" y="1159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Ы ОРГАНИЗАЦИИ КЛАСТЕ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1685880" y="549360"/>
            <a:ext cx="5900760" cy="10191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Сложная (продвинутая) форма организации кластера предполага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584280" y="2527200"/>
            <a:ext cx="3477960" cy="1008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юза (С) или ассоциации (А) юр.лиц и ИП, заинтересованных в формировании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539640" y="4822920"/>
            <a:ext cx="3498840" cy="9460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реждение советом С или А унитарного предприятия для обеспечения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539640" y="5864400"/>
            <a:ext cx="3441960" cy="8902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реализация кластер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>
            <a:off x="179280" y="1379520"/>
            <a:ext cx="0" cy="475128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26"/>
          <p:cNvCxnSpPr/>
          <p:nvPr/>
        </p:nvCxnSpPr>
        <p:spPr>
          <a:xfrm>
            <a:off x="178920" y="6092640"/>
            <a:ext cx="361080" cy="1080"/>
          </a:xfrm>
          <a:prstGeom prst="straightConnector1">
            <a:avLst/>
          </a:prstGeom>
          <a:ln w="3492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34" name="Прямая со стрелкой 28"/>
          <p:cNvCxnSpPr/>
          <p:nvPr/>
        </p:nvCxnSpPr>
        <p:spPr>
          <a:xfrm>
            <a:off x="178920" y="493668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35" name="Прямая со стрелкой 14"/>
          <p:cNvCxnSpPr/>
          <p:nvPr/>
        </p:nvCxnSpPr>
        <p:spPr>
          <a:xfrm>
            <a:off x="214200" y="2781000"/>
            <a:ext cx="36252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36" name="Прямая соединительная линия 5"/>
          <p:cNvSpPr/>
          <p:nvPr/>
        </p:nvSpPr>
        <p:spPr>
          <a:xfrm>
            <a:off x="395280" y="1341360"/>
            <a:ext cx="122400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7791480" y="1336680"/>
            <a:ext cx="108576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"/>
          <p:cNvSpPr/>
          <p:nvPr/>
        </p:nvSpPr>
        <p:spPr>
          <a:xfrm>
            <a:off x="8889840" y="1434960"/>
            <a:ext cx="0" cy="501840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6"/>
          <p:cNvSpPr/>
          <p:nvPr/>
        </p:nvSpPr>
        <p:spPr>
          <a:xfrm>
            <a:off x="5337000" y="3332160"/>
            <a:ext cx="3079800" cy="1224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организации кластерного развития (ОКР) для обеспечения совместной деятельности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7"/>
          <p:cNvSpPr/>
          <p:nvPr/>
        </p:nvSpPr>
        <p:spPr>
          <a:xfrm>
            <a:off x="5337000" y="4653000"/>
            <a:ext cx="3079800" cy="119700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функций коллегиального координационного органа на совет директоров О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5423040" y="5979960"/>
            <a:ext cx="3079440" cy="76068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реализация кластер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584280" y="3660840"/>
            <a:ext cx="3477960" cy="1084320"/>
          </a:xfrm>
          <a:prstGeom prst="roundRect">
            <a:avLst>
              <a:gd name="adj" fmla="val 16667"/>
            </a:avLst>
          </a:prstGeom>
          <a:solidFill>
            <a:srgbClr val="7030a0">
              <a:alpha val="25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функций коллегиального координационного органа кластера на совет С или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20"/>
          <p:cNvCxnSpPr/>
          <p:nvPr/>
        </p:nvCxnSpPr>
        <p:spPr>
          <a:xfrm>
            <a:off x="256680" y="394452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4" name="Прямая со стрелкой 21"/>
          <p:cNvCxnSpPr>
            <a:endCxn id="139" idx="3"/>
          </p:cNvCxnSpPr>
          <p:nvPr/>
        </p:nvCxnSpPr>
        <p:spPr>
          <a:xfrm flipH="1">
            <a:off x="8416080" y="3944520"/>
            <a:ext cx="52164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5" name="Прямая со стрелкой 29"/>
          <p:cNvCxnSpPr/>
          <p:nvPr/>
        </p:nvCxnSpPr>
        <p:spPr>
          <a:xfrm flipH="1">
            <a:off x="8465760" y="6352920"/>
            <a:ext cx="51984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46" name="Прямая со стрелкой 30"/>
          <p:cNvCxnSpPr/>
          <p:nvPr/>
        </p:nvCxnSpPr>
        <p:spPr>
          <a:xfrm flipH="1">
            <a:off x="8416440" y="4936680"/>
            <a:ext cx="47376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47" name="Скругленная прямоугольная выноска 35"/>
          <p:cNvSpPr/>
          <p:nvPr/>
        </p:nvSpPr>
        <p:spPr>
          <a:xfrm rot="10800000">
            <a:off x="4269960" y="1699920"/>
            <a:ext cx="4383000" cy="1303200"/>
          </a:xfrm>
          <a:prstGeom prst="wedgeRoundRectCallout">
            <a:avLst>
              <a:gd name="adj1" fmla="val 40833"/>
              <a:gd name="adj2" fmla="val 78504"/>
              <a:gd name="adj3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комендуется избирать 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218"/>
          <p:cNvSpPr/>
          <p:nvPr/>
        </p:nvSpPr>
        <p:spPr>
          <a:xfrm>
            <a:off x="4300560" y="1700280"/>
            <a:ext cx="40338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мендуется, ес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оставе – крупные/средние коммерческие организации, учреждения науки/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нируется создание специализированной инфра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914400"/>
            <a:ext cx="1585800" cy="51768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7" descr=""/>
          <p:cNvPicPr/>
          <p:nvPr/>
        </p:nvPicPr>
        <p:blipFill>
          <a:blip r:embed="rId2"/>
          <a:stretch/>
        </p:blipFill>
        <p:spPr>
          <a:xfrm>
            <a:off x="7540560" y="920880"/>
            <a:ext cx="1584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36440" y="7920"/>
            <a:ext cx="889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 СОВМЕСТНОЙ ДЕЯТЕЛЬНОСТИ УЧАСТНИКОВ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5"/>
          <p:cNvSpPr/>
          <p:nvPr/>
        </p:nvSpPr>
        <p:spPr>
          <a:xfrm>
            <a:off x="928800" y="549360"/>
            <a:ext cx="7270560" cy="143964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обучающих мероприятий (семинары, тренин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8"/>
          <p:cNvSpPr/>
          <p:nvPr/>
        </p:nvSpPr>
        <p:spPr>
          <a:xfrm>
            <a:off x="893880" y="1413000"/>
            <a:ext cx="7495920" cy="180000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рекламно-маркетинговых мероприятий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оздание и поддержание в актуальном состоянии Интернет-ресурса кластера, участие в выставках, ярмарках, контактно-кооперационных биржах и т.п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9"/>
          <p:cNvSpPr/>
          <p:nvPr/>
        </p:nvSpPr>
        <p:spPr>
          <a:xfrm>
            <a:off x="928800" y="2565360"/>
            <a:ext cx="7416720" cy="168120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совместных закупок товарно-материальных ценностей (сырья, материалов, товаров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10"/>
          <p:cNvSpPr/>
          <p:nvPr/>
        </p:nvSpPr>
        <p:spPr>
          <a:xfrm>
            <a:off x="928800" y="3645000"/>
            <a:ext cx="7327800" cy="161136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проведение совместных маркетинговы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11"/>
          <p:cNvSpPr/>
          <p:nvPr/>
        </p:nvSpPr>
        <p:spPr>
          <a:xfrm>
            <a:off x="927000" y="4659480"/>
            <a:ext cx="7272360" cy="143964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я и выполнение совместных НИОК(Т)Р и иннова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7"/>
          <p:cNvSpPr/>
          <p:nvPr/>
        </p:nvSpPr>
        <p:spPr>
          <a:xfrm>
            <a:off x="893880" y="5516640"/>
            <a:ext cx="7362720" cy="15462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b3a2c7"/>
              </a:gs>
              <a:gs pos="50000">
                <a:srgbClr val="604a7b"/>
              </a:gs>
              <a:gs pos="100000">
                <a:srgbClr val="b3a2c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изводственная кооперация (субконтрактация), организация совместных произ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12536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кономики Республики Белару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 Берсона 14, г. Минск, 220050 Республика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economy.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ак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упский Дмитрий Марьян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управления науки и инновационн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37517) 200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марова Анастасия Эдуард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37517) 200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нт управления науки и инновационн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science@economy.gov.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687760"/>
            <a:ext cx="8448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09440" y="988920"/>
            <a:ext cx="8858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227240" y="115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ОНЯТИЯ И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2" descr=""/>
          <p:cNvPicPr/>
          <p:nvPr/>
        </p:nvPicPr>
        <p:blipFill>
          <a:blip r:embed="rId1"/>
          <a:stretch/>
        </p:blipFill>
        <p:spPr>
          <a:xfrm>
            <a:off x="-36360" y="536400"/>
            <a:ext cx="90579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09440" y="988920"/>
            <a:ext cx="8858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1334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227240" y="115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ОНЯТИЯ И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хема 2" descr=""/>
          <p:cNvPicPr/>
          <p:nvPr/>
        </p:nvPicPr>
        <p:blipFill>
          <a:blip r:embed="rId1"/>
          <a:stretch/>
        </p:blipFill>
        <p:spPr>
          <a:xfrm>
            <a:off x="96840" y="974880"/>
            <a:ext cx="90471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Ы ФОРМИРОВАНИЯ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ФУНКЦИОНИРОВАНИЯ КЛАСТЕРОВ  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8"/>
          <p:cNvCxnSpPr/>
          <p:nvPr/>
        </p:nvCxnSpPr>
        <p:spPr>
          <a:xfrm>
            <a:off x="588960" y="1636200"/>
            <a:ext cx="446472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62" name="Скругленный прямоугольник 15"/>
          <p:cNvSpPr/>
          <p:nvPr/>
        </p:nvSpPr>
        <p:spPr>
          <a:xfrm>
            <a:off x="5267160" y="1224000"/>
            <a:ext cx="3167280" cy="909720"/>
          </a:xfrm>
          <a:prstGeom prst="roundRect">
            <a:avLst>
              <a:gd name="adj" fmla="val 16667"/>
            </a:avLst>
          </a:prstGeom>
          <a:solidFill>
            <a:srgbClr val="7030a0">
              <a:alpha val="11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е принятие решения о вхождении в состав кластера и осуществления совмес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501120" y="1238400"/>
            <a:ext cx="47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добровольное участие в клас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1020240" y="23446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амо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1019520" y="3571920"/>
            <a:ext cx="43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территори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лок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3"/>
          <p:cNvSpPr/>
          <p:nvPr/>
        </p:nvSpPr>
        <p:spPr>
          <a:xfrm>
            <a:off x="5724360" y="2208240"/>
            <a:ext cx="3168720" cy="107640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ый выбор форм организации кластера, направлений сотрудничества, определение и реализация стратегии развития кла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4"/>
          <p:cNvSpPr/>
          <p:nvPr/>
        </p:nvSpPr>
        <p:spPr>
          <a:xfrm>
            <a:off x="5807160" y="3429000"/>
            <a:ext cx="3085920" cy="115236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значительного количества субъектов хозяйствования  и иных организаций на территории одного региона (области, района, гор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/>
          <p:cNvSpPr/>
          <p:nvPr/>
        </p:nvSpPr>
        <p:spPr>
          <a:xfrm>
            <a:off x="924480" y="4637160"/>
            <a:ext cx="39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рациональ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кооперации и конку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9"/>
          <p:cNvSpPr/>
          <p:nvPr/>
        </p:nvSpPr>
        <p:spPr>
          <a:xfrm>
            <a:off x="5416560" y="4724280"/>
            <a:ext cx="3025800" cy="1368720"/>
          </a:xfrm>
          <a:prstGeom prst="roundRect">
            <a:avLst>
              <a:gd name="adj" fmla="val 16667"/>
            </a:avLst>
          </a:prstGeom>
          <a:solidFill>
            <a:srgbClr val="7030a0">
              <a:alpha val="5000"/>
            </a:srgbClr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субъектами хозяйствования  совместных проектов во взаимовыгодных сферах деятельности наряду с сохранением конкурентных отношений в прочих сфе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31"/>
          <p:cNvCxnSpPr/>
          <p:nvPr/>
        </p:nvCxnSpPr>
        <p:spPr>
          <a:xfrm>
            <a:off x="1063800" y="3971520"/>
            <a:ext cx="452628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1" name="Прямая со стрелкой 32"/>
          <p:cNvCxnSpPr/>
          <p:nvPr/>
        </p:nvCxnSpPr>
        <p:spPr>
          <a:xfrm>
            <a:off x="828360" y="5335200"/>
            <a:ext cx="4228200" cy="108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72" name="Прямая со стрелкой 33"/>
          <p:cNvCxnSpPr/>
          <p:nvPr/>
        </p:nvCxnSpPr>
        <p:spPr>
          <a:xfrm flipV="1">
            <a:off x="1063440" y="2715840"/>
            <a:ext cx="4353120" cy="15120"/>
          </a:xfrm>
          <a:prstGeom prst="straightConnector1">
            <a:avLst/>
          </a:prstGeom>
          <a:ln w="4140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3" name="Овал 43"/>
          <p:cNvSpPr/>
          <p:nvPr/>
        </p:nvSpPr>
        <p:spPr>
          <a:xfrm>
            <a:off x="136440" y="123660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4"/>
          <p:cNvSpPr/>
          <p:nvPr/>
        </p:nvSpPr>
        <p:spPr>
          <a:xfrm>
            <a:off x="511200" y="234936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5"/>
          <p:cNvSpPr/>
          <p:nvPr/>
        </p:nvSpPr>
        <p:spPr>
          <a:xfrm>
            <a:off x="558720" y="358128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6"/>
          <p:cNvSpPr/>
          <p:nvPr/>
        </p:nvSpPr>
        <p:spPr>
          <a:xfrm>
            <a:off x="250920" y="4913280"/>
            <a:ext cx="452520" cy="432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44440" y="17604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ИМУЩЕСТВА     И       НЕДОСТАТК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ТЕРНОГО ПОДХ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"/>
          <p:cNvSpPr/>
          <p:nvPr/>
        </p:nvSpPr>
        <p:spPr>
          <a:xfrm>
            <a:off x="873000" y="1628640"/>
            <a:ext cx="3235320" cy="863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Экономия ресурс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857160" y="2685960"/>
            <a:ext cx="3267000" cy="863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Координация действ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а рынк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861840" y="3760920"/>
            <a:ext cx="3233880" cy="136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прощенный доступ и использование коммерческой информации и делов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771480" y="5300640"/>
            <a:ext cx="3440160" cy="131112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продвижение коллективных интерес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4572000" y="1628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обеспечения координации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согласования интерес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0"/>
          <p:cNvSpPr/>
          <p:nvPr/>
        </p:nvSpPr>
        <p:spPr>
          <a:xfrm>
            <a:off x="4500720" y="3056040"/>
            <a:ext cx="4184640" cy="12240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утраты уникальных конкурентных преимуществ, «растворение» в массе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1"/>
          <p:cNvSpPr/>
          <p:nvPr/>
        </p:nvSpPr>
        <p:spPr>
          <a:xfrm>
            <a:off x="4459320" y="4562640"/>
            <a:ext cx="4255920" cy="129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усиления зависимости от более экономически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технологически «продвинутых» участников клас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16"/>
          <p:cNvSpPr/>
          <p:nvPr/>
        </p:nvSpPr>
        <p:spPr>
          <a:xfrm>
            <a:off x="1650960" y="836640"/>
            <a:ext cx="7603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8"/>
          <p:cNvSpPr/>
          <p:nvPr/>
        </p:nvSpPr>
        <p:spPr>
          <a:xfrm>
            <a:off x="6875640" y="836640"/>
            <a:ext cx="79200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9"/>
          <p:cNvSpPr/>
          <p:nvPr/>
        </p:nvSpPr>
        <p:spPr>
          <a:xfrm flipH="1">
            <a:off x="468000" y="1125360"/>
            <a:ext cx="1182600" cy="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1"/>
          <p:cNvSpPr/>
          <p:nvPr/>
        </p:nvSpPr>
        <p:spPr>
          <a:xfrm>
            <a:off x="468360" y="1131840"/>
            <a:ext cx="0" cy="482436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>
            <a:off x="468360" y="5956200"/>
            <a:ext cx="30312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5"/>
          <p:cNvSpPr/>
          <p:nvPr/>
        </p:nvSpPr>
        <p:spPr>
          <a:xfrm>
            <a:off x="468360" y="4435560"/>
            <a:ext cx="38880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>
            <a:off x="468360" y="3117960"/>
            <a:ext cx="388800" cy="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468360" y="2060640"/>
            <a:ext cx="404640" cy="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263"/>
          <p:cNvSpPr/>
          <p:nvPr/>
        </p:nvSpPr>
        <p:spPr>
          <a:xfrm>
            <a:off x="8532720" y="2205000"/>
            <a:ext cx="432000" cy="0"/>
          </a:xfrm>
          <a:prstGeom prst="line">
            <a:avLst/>
          </a:prstGeom>
          <a:ln w="316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1266"/>
          <p:cNvSpPr/>
          <p:nvPr/>
        </p:nvSpPr>
        <p:spPr>
          <a:xfrm>
            <a:off x="8964720" y="2205000"/>
            <a:ext cx="0" cy="309564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1268"/>
          <p:cNvSpPr/>
          <p:nvPr/>
        </p:nvSpPr>
        <p:spPr>
          <a:xfrm>
            <a:off x="8685360" y="3666960"/>
            <a:ext cx="279360" cy="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1270"/>
          <p:cNvSpPr/>
          <p:nvPr/>
        </p:nvSpPr>
        <p:spPr>
          <a:xfrm flipH="1">
            <a:off x="8714880" y="5300640"/>
            <a:ext cx="249480" cy="0"/>
          </a:xfrm>
          <a:prstGeom prst="line">
            <a:avLst/>
          </a:prstGeom>
          <a:ln w="2232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272"/>
          <p:cNvSpPr/>
          <p:nvPr/>
        </p:nvSpPr>
        <p:spPr>
          <a:xfrm>
            <a:off x="7667640" y="1125360"/>
            <a:ext cx="1297080" cy="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1274"/>
          <p:cNvSpPr/>
          <p:nvPr/>
        </p:nvSpPr>
        <p:spPr>
          <a:xfrm>
            <a:off x="8964720" y="1131840"/>
            <a:ext cx="0" cy="10731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ИРОВОЙ ОПЫТ КЛАСТЕРНОГО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396720" y="1047600"/>
            <a:ext cx="8472600" cy="53294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2"/>
          <a:stretch/>
        </p:blipFill>
        <p:spPr>
          <a:xfrm>
            <a:off x="785880" y="4133880"/>
            <a:ext cx="1055520" cy="14558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0" descr=""/>
          <p:cNvPicPr/>
          <p:nvPr/>
        </p:nvPicPr>
        <p:blipFill>
          <a:blip r:embed="rId3"/>
          <a:stretch/>
        </p:blipFill>
        <p:spPr>
          <a:xfrm>
            <a:off x="785880" y="2109960"/>
            <a:ext cx="1055520" cy="14554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1" descr=""/>
          <p:cNvPicPr/>
          <p:nvPr/>
        </p:nvPicPr>
        <p:blipFill>
          <a:blip r:embed="rId4"/>
          <a:stretch/>
        </p:blipFill>
        <p:spPr>
          <a:xfrm>
            <a:off x="371520" y="1023840"/>
            <a:ext cx="1055520" cy="14572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2" descr=""/>
          <p:cNvPicPr/>
          <p:nvPr/>
        </p:nvPicPr>
        <p:blipFill>
          <a:blip r:embed="rId5"/>
          <a:stretch/>
        </p:blipFill>
        <p:spPr>
          <a:xfrm>
            <a:off x="371520" y="5059440"/>
            <a:ext cx="1055520" cy="14572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3" descr=""/>
          <p:cNvPicPr/>
          <p:nvPr/>
        </p:nvPicPr>
        <p:blipFill>
          <a:blip r:embed="rId6"/>
          <a:stretch/>
        </p:blipFill>
        <p:spPr>
          <a:xfrm>
            <a:off x="993600" y="3114720"/>
            <a:ext cx="105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2"/>
          <p:cNvSpPr/>
          <p:nvPr/>
        </p:nvSpPr>
        <p:spPr>
          <a:xfrm>
            <a:off x="468360" y="1244520"/>
            <a:ext cx="3519360" cy="792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нятые Н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5"/>
          <p:cNvSpPr/>
          <p:nvPr/>
        </p:nvSpPr>
        <p:spPr>
          <a:xfrm>
            <a:off x="1674720" y="1916280"/>
            <a:ext cx="1033560" cy="576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403152"/>
              </a:gs>
              <a:gs pos="100000">
                <a:srgbClr val="ccc1d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хема 3" descr=""/>
          <p:cNvPicPr/>
          <p:nvPr/>
        </p:nvPicPr>
        <p:blipFill>
          <a:blip r:embed="rId1"/>
          <a:stretch/>
        </p:blipFill>
        <p:spPr>
          <a:xfrm>
            <a:off x="36360" y="2530440"/>
            <a:ext cx="9120240" cy="4327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08000" y="138240"/>
            <a:ext cx="8935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РМАТИВНАЯ ПРАВОВ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ЛАСТИ КЛАСТЕРНОГО РАЗВИТИЯ НАЦИОНАЛЬ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2"/>
          <p:cNvSpPr/>
          <p:nvPr/>
        </p:nvSpPr>
        <p:spPr>
          <a:xfrm>
            <a:off x="468360" y="1244520"/>
            <a:ext cx="3887640" cy="7923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дготовленные проекты Н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хема 3" descr=""/>
          <p:cNvPicPr/>
          <p:nvPr/>
        </p:nvPicPr>
        <p:blipFill>
          <a:blip r:embed="rId1"/>
          <a:stretch/>
        </p:blipFill>
        <p:spPr>
          <a:xfrm>
            <a:off x="-30240" y="2189160"/>
            <a:ext cx="9229680" cy="4668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08000" y="138240"/>
            <a:ext cx="8935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РМАТИВНО-ПРАВОВ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ЛАСТИ КЛАСТЕРНОГО РАЗВИТИЯ НАЦИОНАЛЬ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1619280" y="23508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Ы ОРГАНИЗАЦИИ КЛАСТЕ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7"/>
          <p:cNvSpPr/>
          <p:nvPr/>
        </p:nvSpPr>
        <p:spPr>
          <a:xfrm>
            <a:off x="2095560" y="932040"/>
            <a:ext cx="5905440" cy="865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. Простая форма организации кластера предполага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8"/>
          <p:cNvSpPr/>
          <p:nvPr/>
        </p:nvSpPr>
        <p:spPr>
          <a:xfrm>
            <a:off x="770040" y="3141720"/>
            <a:ext cx="8137440" cy="863640"/>
          </a:xfrm>
          <a:prstGeom prst="roundRect">
            <a:avLst>
              <a:gd name="adj" fmla="val 16667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а о совместной деятельности, объединение имущественных вкладов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0"/>
          <p:cNvSpPr/>
          <p:nvPr/>
        </p:nvSpPr>
        <p:spPr>
          <a:xfrm>
            <a:off x="789120" y="4149720"/>
            <a:ext cx="8135640" cy="739800"/>
          </a:xfrm>
          <a:prstGeom prst="roundRect">
            <a:avLst>
              <a:gd name="adj" fmla="val 16667"/>
            </a:avLst>
          </a:prstGeom>
          <a:solidFill>
            <a:srgbClr val="7030a0">
              <a:alpha val="23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направлений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1"/>
          <p:cNvSpPr/>
          <p:nvPr/>
        </p:nvSpPr>
        <p:spPr>
          <a:xfrm>
            <a:off x="755640" y="5040360"/>
            <a:ext cx="8136000" cy="630360"/>
          </a:xfrm>
          <a:prstGeom prst="roundRect">
            <a:avLst>
              <a:gd name="adj" fmla="val 16667"/>
            </a:avLst>
          </a:prstGeom>
          <a:solidFill>
            <a:srgbClr val="7030a0">
              <a:alpha val="30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вета кластера из числа собственников (руководителей) участников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2"/>
          <p:cNvSpPr/>
          <p:nvPr/>
        </p:nvSpPr>
        <p:spPr>
          <a:xfrm>
            <a:off x="771480" y="5805360"/>
            <a:ext cx="8137440" cy="863640"/>
          </a:xfrm>
          <a:prstGeom prst="roundRect">
            <a:avLst>
              <a:gd name="adj" fmla="val 16667"/>
            </a:avLst>
          </a:prstGeom>
          <a:solidFill>
            <a:srgbClr val="7030a0">
              <a:alpha val="21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ложение на одного или нескольких участников функций кластерн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 flipH="1">
            <a:off x="439560" y="1365120"/>
            <a:ext cx="1656000" cy="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2"/>
          <p:cNvSpPr/>
          <p:nvPr/>
        </p:nvSpPr>
        <p:spPr>
          <a:xfrm>
            <a:off x="369720" y="1365120"/>
            <a:ext cx="25560" cy="4727880"/>
          </a:xfrm>
          <a:prstGeom prst="line">
            <a:avLst/>
          </a:prstGeom>
          <a:ln w="381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24"/>
          <p:cNvCxnSpPr/>
          <p:nvPr/>
        </p:nvCxnSpPr>
        <p:spPr>
          <a:xfrm>
            <a:off x="394920" y="609264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2" name="Прямая со стрелкой 26"/>
          <p:cNvCxnSpPr>
            <a:endCxn id="117" idx="1"/>
          </p:cNvCxnSpPr>
          <p:nvPr/>
        </p:nvCxnSpPr>
        <p:spPr>
          <a:xfrm>
            <a:off x="369720" y="5354280"/>
            <a:ext cx="386640" cy="1080"/>
          </a:xfrm>
          <a:prstGeom prst="straightConnector1">
            <a:avLst/>
          </a:prstGeom>
          <a:ln w="2556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3" name="Прямая со стрелкой 28"/>
          <p:cNvCxnSpPr/>
          <p:nvPr/>
        </p:nvCxnSpPr>
        <p:spPr>
          <a:xfrm>
            <a:off x="410760" y="451908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cxnSp>
        <p:nvCxnSpPr>
          <p:cNvPr id="124" name="Прямая со стрелкой 14"/>
          <p:cNvCxnSpPr/>
          <p:nvPr/>
        </p:nvCxnSpPr>
        <p:spPr>
          <a:xfrm>
            <a:off x="433080" y="3614400"/>
            <a:ext cx="361080" cy="1080"/>
          </a:xfrm>
          <a:prstGeom prst="straightConnector1">
            <a:avLst/>
          </a:prstGeom>
          <a:ln w="28440">
            <a:solidFill>
              <a:srgbClr val="4a7ebb"/>
            </a:solidFill>
            <a:prstDash val="dash"/>
            <a:miter/>
            <a:tailEnd len="med" type="triangle" w="med"/>
          </a:ln>
        </p:spPr>
      </p:cxnSp>
      <p:sp>
        <p:nvSpPr>
          <p:cNvPr id="125" name="Скругленная прямоугольная выноска 5"/>
          <p:cNvSpPr/>
          <p:nvPr/>
        </p:nvSpPr>
        <p:spPr>
          <a:xfrm rot="10800000">
            <a:off x="4716000" y="2060280"/>
            <a:ext cx="4064040" cy="936720"/>
          </a:xfrm>
          <a:prstGeom prst="wedgeRoundRectCallout">
            <a:avLst>
              <a:gd name="adj1" fmla="val 40833"/>
              <a:gd name="adj2" fmla="val 78504"/>
              <a:gd name="adj3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комендуется избирать про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65680" y="2090880"/>
            <a:ext cx="403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мендуется в случае, если  численность инициаторов - участников кластера - не боле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ов малого и средне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44:49Z</dcterms:created>
  <dc:creator>Admin</dc:creator>
  <dc:description/>
  <dc:language>en-US</dc:language>
  <cp:lastModifiedBy>1003</cp:lastModifiedBy>
  <cp:lastPrinted>2015-05-12T05:43:47Z</cp:lastPrinted>
  <dcterms:modified xsi:type="dcterms:W3CDTF">2015-05-12T05:48:32Z</dcterms:modified>
  <cp:revision>204</cp:revision>
  <dc:subject/>
  <dc:title>Название презентации</dc:title>
</cp:coreProperties>
</file>